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43E-47D6-4BD0-9531-28892205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81D-B7D2-403A-9BD2-4BB850BA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86EA-E5F6-4B93-BE1A-9CA4D7EE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09AA-EB0F-4257-936B-1873550C7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7B8A-B368-4CC8-9F27-AEBBA21B4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5625-5041-4801-BF6F-64D19973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92AD-C32B-4DA7-8AF8-95013E09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5EE-EF58-4C0E-9B46-DE656E28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A372-8550-47FB-B511-6C519BEE5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0205-68FE-4CE2-BF80-9DDA961B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EA9-B856-4EFE-96EA-D675AD85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216-9BF0-49EF-9F4E-708844E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FD5-B823-4C7F-A5E0-D4C2E2D4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159-D9B4-44E2-99F2-0F43A877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CD14-1297-4A7A-8550-AD1F30BE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B50C-267D-42E7-AF9C-803EAC96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DD92-3EC2-48CE-AB35-59E976F9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DAE-C66F-43C9-83B0-45DE1C97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03B8-E7D8-4BC9-BAF5-4DF6740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919B-8ACB-400F-AF34-A83D9F7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E81E-836B-491F-ACBB-90522B3A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FDC-3B3E-4E74-89AC-D241D07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C559-84A3-4C35-94A3-745DFCE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B21-8EB2-42DC-9BEC-F64D2427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19E5-8E74-48CF-878F-F6C6137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958-F923-488E-B104-5FDA9C7F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D7B-3C6E-4B44-B824-AEE7D34F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D1B-5578-4242-9489-7C3A950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6B3-80CE-4ACE-BD0B-BBC64512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F5F-0665-4406-9BC0-031E7309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222-2A5B-47A9-B087-31A9227E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D40-D658-4E6C-A40E-85EB9693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20B-332E-4D88-9FB9-CE5929D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49F-31E3-4A07-8CF0-787E48B4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974-1972-4944-ACC4-8D254884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>
                  <a:gd name="textAreaLeft" fmla="*/ 0 w 7501320"/>
                  <a:gd name="textAreaRight" fmla="*/ 7501680 w 750132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>
                    <a:gd name="textAreaLeft" fmla="*/ 0 w 912600"/>
                    <a:gd name="textAreaRight" fmla="*/ 912960 w 9126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>
                    <a:gd name="textAreaLeft" fmla="*/ 0 w 1281240"/>
                    <a:gd name="textAreaRight" fmla="*/ 1281600 w 1281240"/>
                    <a:gd name="textAreaTop" fmla="*/ 0 h 1062720"/>
                    <a:gd name="textAreaBottom" fmla="*/ 1063080 h 1062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>
                    <a:gd name="textAreaLeft" fmla="*/ 0 w 1330920"/>
                    <a:gd name="textAreaRight" fmla="*/ 1331280 w 133092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>
                    <a:gd name="textAreaLeft" fmla="*/ 0 w 1058760"/>
                    <a:gd name="textAreaRight" fmla="*/ 1059120 w 1058760"/>
                    <a:gd name="textAreaTop" fmla="*/ 0 h 709200"/>
                    <a:gd name="textAreaBottom" fmla="*/ 709560 h 70920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>
                    <a:gd name="textAreaLeft" fmla="*/ 0 w 1321920"/>
                    <a:gd name="textAreaRight" fmla="*/ 1322280 w 1321920"/>
                    <a:gd name="textAreaTop" fmla="*/ 0 h 1329840"/>
                    <a:gd name="textAreaBottom" fmla="*/ 1330200 h 1329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>
                    <a:gd name="textAreaLeft" fmla="*/ 0 w 899640"/>
                    <a:gd name="textAreaRight" fmla="*/ 900000 w 899640"/>
                    <a:gd name="textAreaTop" fmla="*/ 0 h 874080"/>
                    <a:gd name="textAreaBottom" fmla="*/ 874440 h 8740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>
                    <a:gd name="textAreaLeft" fmla="*/ 0 w 1805040"/>
                    <a:gd name="textAreaRight" fmla="*/ 1805400 w 1805040"/>
                    <a:gd name="textAreaTop" fmla="*/ 0 h 356400"/>
                    <a:gd name="textAreaBottom" fmla="*/ 356760 h 35640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5526-EECB-40B1-B916-0587FD82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languages and religions of your country. Tell about the important customs and traditions celebrated in your count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029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rrent Ev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of the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(5 sente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teracy R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infall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5" name="Object 5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erature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682560" y="2133720"/>
          <a:ext cx="77407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133720"/>
                    <a:ext cx="77407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environmental issues and natural hazards that take place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690040" cy="3471840"/>
        </p:xfrm>
        <a:graphic>
          <a:graphicData uri="http://schemas.openxmlformats.org/drawingml/2006/table">
            <a:tbl>
              <a:tblPr/>
              <a:tblGrid>
                <a:gridCol w="1576440"/>
                <a:gridCol w="1598760"/>
                <a:gridCol w="1751040"/>
                <a:gridCol w="1751400"/>
                <a:gridCol w="1576440"/>
                <a:gridCol w="216000"/>
                <a:gridCol w="21996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form of government and who is the leader of your country. Identify when and from whom your country gained independence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What is the GDP per capita, unemployment rate, and population below the poverty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rdepiro</cp:lastModifiedBy>
  <dcterms:modified xsi:type="dcterms:W3CDTF">2011-01-14T13:16:07Z</dcterms:modified>
  <cp:revision>8</cp:revision>
  <dc:subject/>
  <dc:title>Name of Your Country</dc:title>
</cp:coreProperties>
</file>